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937-4416-49EE-8F30-F6F37BAF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A4D-A44A-487A-B98B-D066589E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688-0026-46E1-8A47-A139CB19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58B-F844-46B7-8F9C-CC822DDA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FC1-2740-41B2-981A-26C2B401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370-6C22-4AE5-9BCE-DD4AAAB1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F3B-1EF7-4469-AD7A-6AE14A0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060-B528-42B0-91CA-72C84257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4CD-51D5-4586-954A-8FF0C8C5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874-2B7D-4EA1-BDFB-822E481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E27-3FE7-400F-865C-82C9BAD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4C4-DC01-4048-ADE3-6969D8C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   </a:t>
            </a:r>
            <a:fld id="{E51E01D4-86D1-4F34-853E-A58235B73B3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ocionek,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Jan 30t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R&amp;D Pro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- An alternative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B36-BE8D-4693-A7AD-48078EC2D1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63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Some Thoughts on role-based R&amp;D Re-organ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202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Idea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Take out „non-productive“ rol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duce amount of specialization, and try utilizing more „generalists“ of highest competencies (supports Scrum team needs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Approach: Structure R&amp;D in two main categor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Production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develop that develop (parts of) the produc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I desigers who define UI and usabilit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crum teams who write software (device layer, middleware, components, applications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rchitecture teams that design the system (HW, SW, MD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lanning and integration teams (release plans, sprint plans, etc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D and HW teams that design layouts, produce prototypes, build samples, etc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Service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support the activities of the production cente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fig &amp; Build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ystem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MV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IT infrastructur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Training and educa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tract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Next step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eam to categorize all staff in production and service contributo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o identify all people who are not needed for either catego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7886880" y="5410080"/>
            <a:ext cx="1104840" cy="6858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492-8A95-41BB-8830-14A258528D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2D0-0B9C-432E-BF71-F80D5BE90C0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30T08:27:47Z</dcterms:modified>
  <cp:revision>288</cp:revision>
  <dc:subject/>
  <dc:title>PowerPoint 簡報</dc:title>
</cp:coreProperties>
</file>